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6677-66A4-48C7-87C2-FA7DC613275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97E3-FD51-4DFB-89D6-7E63381949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475F-1EE3-4F48-B051-F1877E7B40E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04A2-1875-4D72-AFB0-3FE92407CA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B8A0-B69B-42DB-AF02-BDE15940801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7594-ABDE-4FA7-85E1-96CE760D794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9201-833E-489E-8AB8-5CE99E5A33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389E-3F49-4255-BE6A-55DE1A14215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1C8A-4C5A-4865-8E2C-E67BF48E20A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A47C-1902-47B6-8BA4-F180F3E4A27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3D2F-5F84-4CB6-A6E0-0BBB0FE3A8B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715F-8F64-474C-8E49-8C8F365739E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FA06-8BAF-4B13-9BB2-19EC4B3B97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29BA-AA55-4753-8CF4-DF84F2A97DA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B4CB-F43A-43C7-949C-220A58DE736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B93A3-125E-4198-AFD4-9BB9CE819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4CA28-8015-4C72-8BC4-460F6C292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A916C-A19D-4F29-B38B-3325B0AD7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0F9E4-AE0D-419C-B8AE-4D6BA2DDA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96ABF-716E-4868-B5A5-F2F7B4A15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F79DA-D50B-4EB9-94E2-C17628556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07400-F223-42E9-812E-062CC6BDF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891F5-419A-4CB4-8D2A-90BFA1FAF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66F60-1DB8-4D59-9B53-7347A9F9D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256F9-BDB0-41F7-BF43-EDA42842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D53BB-02F6-4737-B747-F66CECAA6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8AC70-7369-44C3-AD33-BD8B573CE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695C-205C-4547-9B8C-2441D3929EB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4640"/>
            <a:ext cx="5543640" cy="609300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ommunicate by Twitte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9T20:48:07Z</dcterms:modified>
  <cp:revision>27</cp:revision>
  <dc:subject/>
  <dc:title>People who change the world</dc:title>
</cp:coreProperties>
</file>